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34EF-DF0D-4973-A7BC-3E73CCE8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203-0239-414B-A999-92289E2A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745-D69A-4B24-A6B1-2449CA60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406-3221-4E3F-B692-7708AF6B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3036-2164-4259-A8B4-E7F79B84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F115-9EE7-46CA-BDC9-46FB3B3A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84A1-0508-4BCF-B120-6B916D68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7259-BB27-49EE-AB18-496AEAC2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8EC2-67E1-45D2-8EAB-E6768380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0551-4C52-4813-8D17-69A95324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97C5-91C8-40CD-8532-DA002CF8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B3D6-FED1-4564-8E42-EB72DB34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FB55-34C5-4B6D-BC76-EC2F2F07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CDA5-63C0-4823-AAF9-EC98888D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35D3-72D4-47CB-96FD-5E3D2C76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0247-57ED-48CD-81AA-B31145C5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81B6-4028-4C33-95C7-35D2A5F7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3C7-E5BA-424D-A5E0-E527DA7C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6D8-11F4-418F-827C-6D5B1688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AAF-0CA0-4651-9394-B6735A94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EE9-6DF0-47C5-B0FA-0CC55759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201-81E4-48E8-920F-EFEF061D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FF89-BA62-43D6-9B5A-D0872872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97B-BBD7-4BF2-9CDD-8D7A15F1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2CA1-DF88-4723-BD95-AA0103F409B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260B-13FE-467E-90C1-6F3E2230058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53040" y="617400"/>
            <a:ext cx="5284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omance morisc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omance de Zulema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l Alhmbra a medianoch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ale gallardo Zulema,[Sulaiman =Salomón]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iego de cólera y celos, si acaso los celos ciega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Bajaba el valiente mor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noche , por ver si en ell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uede con su oscurid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ar lumbre a cierta sospech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que su querida Za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mora  hermosa, discr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lma de su pensamiento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a fe y palabra le quiebr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Tenía celos el moro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l alcaide de Marbell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en Granada residí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orque su calle pase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457720" y="474840"/>
            <a:ext cx="3338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uanto lleva en el vestid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a publicando su pen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quiere ya publicall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lo diga su libre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a marlota, verde oscur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eñal de esperanza muert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una cadena bord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levaba fija esta letra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Mi esperanza cautivé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como se vio suj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udando de su rescat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no a morir en cadena”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l bonete, carmesí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en él una pluma neg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por letra: “Mi alegrí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mpite con mi tristez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aballo rucio rodad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escrito entrambas riendas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27280" y="260280"/>
            <a:ext cx="4032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Ha rodado por mi alm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mi fortuna la rued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el campo del adarg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levaba una calave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un mote en la frente escrit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que dice: “Ya estoy cerc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un borceguí datilad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orado sólo la vuel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dice: “Si vuelta está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ifícil será volvell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Una banderilla azu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una lanza jin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dice la letra: “Celos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hincádsela hasta que muer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eñido un dorado alfanj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orado jaez y espuelas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toca dorada al brazo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es de su Zara la empres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895480" y="333360"/>
            <a:ext cx="38372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legado al sitio y lug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dónde su amada pren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vía, aunque en sus entrañ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tiene morada más cier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o la ventana cerrad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por no volver sin vell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n el cuento de la lanz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io un pequeño golpe en ell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u dama, que descuidada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taba de la novel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or un pequeño postig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e asomó por ver quién er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No le conoció tan prest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tando un rato suspensa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Zulema picó caball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llegándose más cerc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iciéndole: -¡Sol del mund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en los ojos reverberas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673360" y="762120"/>
            <a:ext cx="3522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brid toda la ventan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sterraréis las tinieblas!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lla , que le conoció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e dijo: -Amado Zulem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e nombre es propio vuestr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o luna basta que se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sabéis que a la lun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l sol su lumbre le presta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si acaso tengo algun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a recibo de la vuestr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Zulema le dijo:-¡Ay, Za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uánto vale en el alma me pes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que te cuadre ese nom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luna , que yo sol sea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orque la luna en el cielo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endo el sol en su presenci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no da de sí luz ningun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eñal que de ello le pesa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673720" y="617400"/>
            <a:ext cx="3426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cuando se alegra má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 cuando su sol se ausent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creo que tú lo imit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esto, por darme pena-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espondió Zara, turbada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-¡Qué bien de ver se te ech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eso, y en venir tard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los celos te hacen guerra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secha, Zulema amig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e dolor que te apri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unque escaramuza y paj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eas delante mis puertas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ues soy de peña a sus dueño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uanto para ti de cera-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Zulema algo asegurad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ólo le da por respuesta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744280" y="906480"/>
            <a:ext cx="403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_¡Plegue a Dios que al mucho curs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no se allane la carrera!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n esto se parte el mor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humillado la cabez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n intento de mud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aballo, lanza y librea.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2:34:58Z</dcterms:created>
  <dc:creator> </dc:creator>
  <dc:description/>
  <dc:language>en-US</dc:language>
  <cp:lastModifiedBy> </cp:lastModifiedBy>
  <dcterms:modified xsi:type="dcterms:W3CDTF">2007-10-03T03:33:13Z</dcterms:modified>
  <cp:revision>9</cp:revision>
  <dc:subject/>
  <dc:title>Diapositiva 1</dc:title>
</cp:coreProperties>
</file>